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BC4E-193E-48A3-A053-6B974B22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62A7-E085-4971-97DB-AB4ABBB0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D128-5D59-499F-8BBC-B14DA814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C0D3-C773-4F33-9C42-C0EC3E95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013-976E-468D-8E6A-EE9F2FCE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FCF-89ED-45F3-A65E-9FBFB6DA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9C35-4C14-46A3-A579-992D602A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4977-577D-4B20-8DF3-AF815E07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49B-7FE9-42BD-A54F-7D4C1AED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85A-BB20-4502-A864-7C540D85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09A-6BE0-4738-836C-B4CD079C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04C-8828-46C9-8F49-5471D7DD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C1A8-381B-4B12-ABE8-AF024C88C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" Target="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7.jpeg"/><Relationship Id="rId4" Type="http://schemas.openxmlformats.org/officeDocument/2006/relationships/slide" Target="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9.jpeg"/><Relationship Id="rId4" Type="http://schemas.openxmlformats.org/officeDocument/2006/relationships/slide" Target=""/><Relationship Id="rId5" Type="http://schemas.openxmlformats.org/officeDocument/2006/relationships/image" Target="../media/image10.jpeg"/><Relationship Id="rId6" Type="http://schemas.openxmlformats.org/officeDocument/2006/relationships/slide" Target="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63700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c00"/>
                </a:solidFill>
                <a:uFillTx/>
                <a:latin typeface="Arial"/>
              </a:rPr>
              <a:t>        </a:t>
            </a:r>
            <a:r>
              <a:rPr b="0" lang="en-US" sz="4000" spc="-1" strike="noStrike" u="sng">
                <a:solidFill>
                  <a:srgbClr val="99cc00"/>
                </a:solidFill>
                <a:uFillTx/>
                <a:latin typeface="Arial"/>
              </a:rPr>
              <a:t>Сочинение-описание 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"Моя любимая игрушка"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64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99"/>
          <p:cNvPicPr/>
          <p:nvPr/>
        </p:nvPicPr>
        <p:blipFill>
          <a:blip r:embed="rId2"/>
          <a:stretch/>
        </p:blipFill>
        <p:spPr>
          <a:xfrm>
            <a:off x="0" y="-6480"/>
            <a:ext cx="2411280" cy="187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Мышка Женнаро, серая маленькая. Мягкая игрушка Мышка Женнаро серая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38880" y="234936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804000" y="333360"/>
            <a:ext cx="1562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5 клас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797200" y="-360"/>
            <a:ext cx="6346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Какие стили речи вы знаете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разговорный, художественный,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учны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В каком стиле мы будем описывать наши игруш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в художественном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А какие типы речи вы зн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рассуждение, описание,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ествовани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Что значит опис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этот текст отвечает на вопрос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акой?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Какова композиция опис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щее впечат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писание дета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цен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Игрушка мягкая, &quot;Микки&quot;, 43 см.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203560" cy="4221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6"/>
          <p:cNvSpPr txBox="1"/>
          <p:nvPr/>
        </p:nvSpPr>
        <p:spPr>
          <a:xfrm>
            <a:off x="250920" y="5373720"/>
            <a:ext cx="676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Основная мысль сочинения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19280" y="5948640"/>
            <a:ext cx="8424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Любимая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игрушка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.е. за описанием игрушки должен чувствоваться автор, его интерес, ведь выбор игрушки не случаен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552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Щенок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ягкая игрушка из искусственного меха. Предназначена для детей 5-12 лет. Длина – 25 см., высота – 20см. Цвет коричневый  . Неозвученная, с механическим заводом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Мистер Лакки Картежник. Анимированная игрушка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84720" y="3645000"/>
            <a:ext cx="2540160" cy="2539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0" y="4221000"/>
            <a:ext cx="600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Соответствует 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данный текст нашей теме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5516640"/>
            <a:ext cx="64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т, здесь идёт речь об игрушке вообще, а не о любимой вещи; дана информация, но не выражено авторское отно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Полярный мишка Пеперминт. Мягкая игрушка Мягкая игрушка, 19 см.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64360" y="501336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Змея. Мягкая игрушка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54936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6000" y="2923920"/>
            <a:ext cx="7704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Завяз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развитие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кульмин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спад дейст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развяз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268360" y="620640"/>
            <a:ext cx="6048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А можно ли повествование совместить с описани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Какова будет композиция такого сочинени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0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48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1.В чём может состоять завязка, развитие  действия? (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как появилась игрушка).</a:t>
            </a:r>
            <a:br>
              <a:rPr sz="2800"/>
            </a:b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2.А можно сочинение начать сразу с кульминации? (т.е. с описания). </a:t>
            </a:r>
            <a:br>
              <a:rPr sz="2800"/>
            </a:b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Да, можно. Эта игрушка меня сразу очаровала, как только я её увидела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.  </a:t>
            </a:r>
            <a:br>
              <a:rPr sz="2800"/>
            </a:b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3.А как вы понимаете: очаровала, очаровательный?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обаятельный, пленительный). </a:t>
            </a:r>
            <a:br>
              <a:rPr sz="2800"/>
            </a:b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4.Каков корень слова, как его нужно написать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Смешарики: Ежик с листиком. Мягкая игрушка Игрушка на присоске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132000" y="513072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Смешарики: Крош с морковкой. Мягкая игрушка Игрушка на присоске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Смешарики: Лосяш. Мягкая говорящая игрушка Мягкая говорящая игрушка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23888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86979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Пластмассовая, металлическое,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рекрасное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чудесное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занимательное,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удивительное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механическое, увлекательное,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забавное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импатичное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интересное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автоматическое, заводно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Собака &quot;Чапа&quot; с костью. Мягкая озвученная игрушка, 31см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372360" y="4086360"/>
            <a:ext cx="2771640" cy="27716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2769840" y="263160"/>
            <a:ext cx="4507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7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Словарный диктан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43120" y="213840"/>
            <a:ext cx="610704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А сейчас на черновиках вы напишите сочинение.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омните:</a:t>
            </a: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1) За описанием должен стоять автор. 2)Необходимо соблюдать  композицию сочинения.</a:t>
            </a:r>
            <a:br>
              <a:rPr sz="3600"/>
            </a:br>
            <a:r>
              <a:rPr b="1" i="1" lang="en-US" sz="3600" spc="-1" strike="noStrike">
                <a:solidFill>
                  <a:srgbClr val="99cc00"/>
                </a:solidFill>
                <a:latin typeface="Arial"/>
              </a:rPr>
              <a:t>3) Устраните те речевые ошибки, которые встретили в текста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Фиеста Фредди. Анимированная игрушка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8:45:57Z</dcterms:created>
  <dc:creator>INNA</dc:creator>
  <dc:description/>
  <dc:language>en-US</dc:language>
  <cp:lastModifiedBy>XP GAME 2007</cp:lastModifiedBy>
  <dcterms:modified xsi:type="dcterms:W3CDTF">2009-01-29T18:58:58Z</dcterms:modified>
  <cp:revision>5</cp:revision>
  <dc:subject/>
  <dc:title>Сочинение-описание .    "Моя любимая игрушка"</dc:title>
</cp:coreProperties>
</file>